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click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6C7-2990-4032-8E4A-88B74E4E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5E0-C650-44AB-BE22-01B0A5B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E4E-C45A-4321-941A-6ABB32C5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386-A8DE-4924-B3AA-DD85E32E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C0C2-77D5-4B7F-8819-5981EBF5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6B4-A96F-4F05-8887-18FF685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03F-0D07-455A-9678-1B30CB33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4ADD-B496-45E9-9F6C-9B42DD94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115B-A30C-49B1-9388-707C9ED9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ECEF-98D0-42CB-B9FE-6FD7900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757-6015-424B-884F-6E2978A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C5F-65E3-4027-AE37-3AD3032A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949-258F-411F-86F2-2C5E9F8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B0FA-59E2-439A-87DE-AF697D7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3D86-40E2-41DD-B93C-20B159CE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BCC8-50A5-459D-B7D1-E61015B4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82A3-14FD-4515-8E62-3E546FE0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B546-D092-4DF0-9B44-971338BA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B6BE-76E9-4FD1-9677-9E0C680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3EF9-07D1-471D-B172-4D2C54F5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11B4-636A-438F-9E42-BA0333A8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D215-9CF6-43E4-914A-4C13038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8C2-79AC-41D8-9BA5-AC4AABB4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3937-98C0-45DE-829C-0AA87ABF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20D9-9714-4322-9493-3359581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1E40-5317-48E4-AD3E-738F862B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02B8-6A1E-4A69-84C2-0CA8318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5FD3-61FB-485E-A585-640EBD54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12DF-9DEB-4E08-806A-DF4B3ADA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3E5C-A041-49D8-9F1D-66E4C26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548-CA9E-4166-B237-D94C4BF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C35-191E-4D55-981B-2C1936B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64F-48C5-42BF-9234-D170C86F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E0E-1B73-4F5E-822F-A18D295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614-2BAD-4956-ACF7-031140B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DDB-223B-4BAA-B1EC-B62E90E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8346-EA07-45AC-BFAE-3646ECA337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290A-F0AA-4121-B21B-17585AAEDF0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30FB-003A-465D-A76B-6EF8ED07BF65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8395200" y="409320"/>
            <a:ext cx="28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0FB9-D805-4C2B-B2F1-AF00BD97BB2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5786280" y="428760"/>
            <a:ext cx="142884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785880" y="1643040"/>
          <a:ext cx="3214800" cy="73188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Istituto italiano per gli studi 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00760" y="1571760"/>
          <a:ext cx="3466800" cy="731880"/>
        </p:xfrm>
        <a:graphic>
          <a:graphicData uri="http://schemas.openxmlformats.org/drawingml/2006/table">
            <a:tbl>
              <a:tblPr/>
              <a:tblGrid>
                <a:gridCol w="3466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Associazione etnea studi storico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3"/>
          <p:cNvSpPr/>
          <p:nvPr/>
        </p:nvSpPr>
        <p:spPr>
          <a:xfrm>
            <a:off x="714240" y="2835720"/>
            <a:ext cx="785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9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0 Marzo 2009, ore 16 - 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Liceo soci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sic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edagogic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G. Turrisi Colonn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via F. Filzi, 24 (piazza Montessori) Cat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 (φιλ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ί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α) (2)</a:t>
            </a:r>
            <a:br>
              <a:rPr sz="24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, 1, 1155a 23-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1785600"/>
            <a:ext cx="8715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Quando si è amici, non c’è alcun bisogn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giustizia, mentre, quando si è giusti, c’è anc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bisogno di amicizia ed il più alto livell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giustizia si ritiene che consista in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atteggiamento di amicizia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1960-D8FB-4FC6-857C-97B88E7071B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 (φιλ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ί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α) (3)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, 1, 1155a 23-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560" y="1643040"/>
            <a:ext cx="8713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E non solo è una cosa necessaria, ma è anche una cosa bella: infatti, noi lodiamo coloro che amano gli amici, anzi si ritiene che l’avere molti amici sia qualcosa di bello; ed inoltre, si pensa che sono gli stessi uomini che sono buoni e am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597-AD53-42C2-82F5-6158D35519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oncordi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, 6, 1167a 27-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87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città vi è concordia quando i cittadini la pensano alla stessa maniera a proposito dei loro interessi, e scelgono e mettono in pratica le stesse cose, quelle che hanno comunitariamente giudicate opportu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concordi, quindi, sulle cose da farsi, almeno su quelle importanti e che possono soddisfare le due parti o tutte le parti interess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9B6-A210-4F11-8719-0403A89F895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giustizia (1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, 1, 1130a 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8786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    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[…] la giustizia, sola tra le virtù, è considerata anche «bene degli altri», perché è diretta agli altri. Essa, infatti, fa ciò che è vantaggioso per un altro, sia per uno che detiene il potere sia per uno che è membro della comunità. Ciò posto, il peggiore degli uomini è colui che esercita la propria malvagità sia verso se stesso sia verso gli amic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3193-11DB-471E-B6D2-B00E2854106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giustizia (2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, 1, 1130a 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499760"/>
            <a:ext cx="8786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mentre </a:t>
            </a:r>
            <a:r>
              <a:rPr b="1" i="1" lang="it-IT" sz="3200" spc="-1" strike="noStrike">
                <a:solidFill>
                  <a:srgbClr val="c00000"/>
                </a:solidFill>
                <a:latin typeface="Times New Roman"/>
                <a:ea typeface="Verdana"/>
              </a:rPr>
              <a:t>il migliore non è quello che esercita la virtù verso se stesso, ma quello che la esercita nei riguardi degli altri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; questa, infatti, è un’impresa diffic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00000"/>
                </a:solidFill>
                <a:latin typeface="Times New Roman"/>
                <a:ea typeface="Verdana"/>
              </a:rPr>
              <a:t>La virtù così determinata non è quindi una parte della virtù, ma la virtù nella sua completezza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, e l’ingiustizia che le si contrappone non è una parte del vizio, ma il vizio nella sua complet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CB50-F8FE-4158-A8AC-4A0F7B3707D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AMICIZIA E GIUSTIZ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AMICIZIA </a:t>
            </a:r>
            <a:r>
              <a:rPr b="1" i="1" lang="it-IT" sz="3200" spc="-1" strike="noStrike">
                <a:solidFill>
                  <a:srgbClr val="2a47d6"/>
                </a:solidFill>
                <a:latin typeface="Times New Roman"/>
              </a:rPr>
              <a:t>(</a:t>
            </a:r>
            <a:r>
              <a:rPr b="1" i="1" lang="el-GR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φιλία</a:t>
            </a:r>
            <a:r>
              <a:rPr b="1" i="1" lang="it-IT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ruttura antropologica originaria e fondante (momento affet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GIUSTIZI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2a47d6"/>
                </a:solidFill>
                <a:latin typeface="Times New Roman"/>
              </a:rPr>
              <a:t>(</a:t>
            </a:r>
            <a:r>
              <a:rPr b="1" i="1" lang="el-GR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δικαιοσύνη</a:t>
            </a:r>
            <a:r>
              <a:rPr b="1" i="1" lang="it-IT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) razionalizzazione dei rapporti intersoggettivi mediante 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) virt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AMICIZI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n quanto virtù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26920" y="2205000"/>
            <a:ext cx="289080" cy="1079640"/>
          </a:xfrm>
          <a:prstGeom prst="downArrow">
            <a:avLst>
              <a:gd name="adj1" fmla="val 50000"/>
              <a:gd name="adj2" fmla="val 933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826920" y="3860640"/>
            <a:ext cx="289080" cy="1729080"/>
          </a:xfrm>
          <a:prstGeom prst="downArrow">
            <a:avLst>
              <a:gd name="adj1" fmla="val 50000"/>
              <a:gd name="adj2" fmla="val 14953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180-C5FF-4B75-8C01-F5695C541D3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FORME DELL’AMICIZ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util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iac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bene     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micizia perf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6"/>
          <p:cNvCxnSpPr>
            <a:stCxn id="242" idx="0"/>
            <a:endCxn id="242" idx="0"/>
          </p:cNvCxnSpPr>
          <p:nvPr/>
        </p:nvCxnSpPr>
        <p:spPr>
          <a:xfrm>
            <a:off x="4608000" y="1125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AutoShape 7"/>
          <p:cNvCxnSpPr>
            <a:stCxn id="242" idx="1"/>
            <a:endCxn id="242" idx="1"/>
          </p:cNvCxnSpPr>
          <p:nvPr/>
        </p:nvCxnSpPr>
        <p:spPr>
          <a:xfrm>
            <a:off x="250560" y="3646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AutoShape 8"/>
          <p:cNvSpPr/>
          <p:nvPr/>
        </p:nvSpPr>
        <p:spPr>
          <a:xfrm>
            <a:off x="3348000" y="1844640"/>
            <a:ext cx="360360" cy="1944720"/>
          </a:xfrm>
          <a:custGeom>
            <a:avLst/>
            <a:gdLst>
              <a:gd name="textAreaLeft" fmla="*/ 0 w 360360"/>
              <a:gd name="textAreaRight" fmla="*/ 12996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780000" y="2205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micizie accid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5724360" y="1557360"/>
            <a:ext cx="433440" cy="4103640"/>
          </a:xfrm>
          <a:custGeom>
            <a:avLst/>
            <a:gdLst>
              <a:gd name="textAreaLeft" fmla="*/ 0 w 433440"/>
              <a:gd name="textAreaRight" fmla="*/ 304200 w 433440"/>
              <a:gd name="textAreaTop" fmla="*/ 171000 h 4103640"/>
              <a:gd name="textAreaBottom" fmla="*/ 393300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143760" y="2714760"/>
            <a:ext cx="285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recipro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2060"/>
                </a:solidFill>
                <a:latin typeface="Verdana"/>
                <a:ea typeface="Verdana"/>
              </a:rPr>
              <a:t>ἀ</a:t>
            </a:r>
            <a:r>
              <a:rPr b="1" i="1" lang="el-GR" sz="2800" spc="-1" strike="noStrike">
                <a:solidFill>
                  <a:srgbClr val="002060"/>
                </a:solidFill>
                <a:latin typeface="Verdana"/>
                <a:ea typeface="Verdana"/>
              </a:rPr>
              <a:t>ντιφίλησ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B5DD-A90E-4587-B38E-F5198F1211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perfetta (1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III, 3, 1156b 7-12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[l’amicizia perfetta è] l’amicizia degli uom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uoni e simili per virtù: costoro, infat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vogliono il bene l’uno dell’altro, in modo sim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n quanto sono buoni, ed essi sono buoni per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essi. Coloro che vogliono il bene degli am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er loro stessi sono i più grandi amici; infat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rovano questo sentimento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 quello che g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ici sono per se stessi e non accidentalmente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07F7-7BB6-4454-9CF0-5D52CE83C29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perfetta (2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X,  11, 1171b 15-17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[…] si può ritenere che noi dobbia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ollecitamente invitare gli amici a parteci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lla nostra buona sorte (ché è bello comportar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da benefattori), ma esitare a chiamarli n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attiva; bisogna, infatti, farli partecipare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meno possibile ai nostri mali. [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41F-B183-4B90-8F58-0E098DCBEB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perfetta (3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X,  11, 1171b 20-23</a:t>
            </a: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Viceversa, conviene senza dubbio che no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ndiamo a soccorrere gli amici sfortun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enza farci chiamare, e sollecit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giacché è proprio di un amico far il b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e soprattutto a coloro che si trovano 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isogno, anche se non pretendono null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er entrambi, infatti, è più bello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iacevole).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98F-2A1D-489F-8D5E-5D919F9999F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8267760" y="410040"/>
            <a:ext cx="40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E38-29D3-4853-ACBB-DED9D960ADE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387360"/>
            <a:ext cx="9028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cezione aristotelica della poli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e scienza della pr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'attualità di una proposta “inattu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La politica, scienza architettonica della pr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"Poiesi" e "prassi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'etica-politica scienza di ciò che l'uomo d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s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Le categorie fondamentali del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L'originaria costituzione intersogge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l'uomo: "amicizia" e "giustizia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a vita buona: vita teoretica e vita at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fra disuguali (1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III,  12, 1162a  5-7</a:t>
            </a: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87138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micizia dei figli verso i genitori e degli uomini verso gli dei è come un’amicizia verso un essere buono e superiore: essi, infatti, hanno dato loro i benefici più grandi, giacché sono gli autori della loro esistenza, del loro allevamento, e, mentre crescono, della loro educazion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5258-73C6-4F37-B1A4-3A2184C1641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fra disuguali (2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III,  14, 1163b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713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l’amicizia richiede è il contraccambio possibile, non quello che sarebbe adeguato al merito, giacché ciò non sarebbe neppure possibile in tutti i casi, come nel caso degli onori da tributarsi agli dei ed ai genitori; nessuno infatti potrebbe mai rendere loro il contraccambio adeguato, ma chi li venera secondo le sue possibilità è ritenuto uomo virtuo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4BD6-BE69-4713-8C04-81901B37C98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L’amicizia: stru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Times New Roman"/>
              </a:rPr>
              <a:t>Reciproc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140360" y="2852640"/>
            <a:ext cx="1368360" cy="144720"/>
          </a:xfrm>
          <a:prstGeom prst="leftRightArrow">
            <a:avLst>
              <a:gd name="adj1" fmla="val 50000"/>
              <a:gd name="adj2" fmla="val 188229"/>
            </a:avLst>
          </a:prstGeom>
          <a:solidFill>
            <a:srgbClr val="2a4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700360" y="3716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4211640" y="400536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4067280" y="4581360"/>
            <a:ext cx="1368360" cy="287640"/>
          </a:xfrm>
          <a:prstGeom prst="leftArrow">
            <a:avLst>
              <a:gd name="adj1" fmla="val 50000"/>
              <a:gd name="adj2" fmla="val 118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484360" y="5445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micizia tra disug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E04-F4F6-48D1-BC19-A12D0A02E63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L’amicizia: stru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Times New Roman"/>
              </a:rPr>
              <a:t>Sim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140360" y="2781360"/>
            <a:ext cx="1368360" cy="360360"/>
          </a:xfrm>
          <a:prstGeom prst="leftRightArrow">
            <a:avLst>
              <a:gd name="adj1" fmla="val 50000"/>
              <a:gd name="adj2" fmla="val 75592"/>
            </a:avLst>
          </a:prstGeom>
          <a:solidFill>
            <a:srgbClr val="2a4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700360" y="3716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4211640" y="3933720"/>
            <a:ext cx="1297080" cy="358920"/>
          </a:xfrm>
          <a:prstGeom prst="rightArrow">
            <a:avLst>
              <a:gd name="adj1" fmla="val 50000"/>
              <a:gd name="adj2" fmla="val 903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4140360" y="450864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484360" y="5445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micizia tra ug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3956-D885-4A5A-8B8C-E90023AA4E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esti di riferimento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Etica Nicomachea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: V, VIII,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Politica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: I,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7768-EDB8-4BF4-9710-4EEE45DBC6F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1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2, 1253a 2-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8713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…] è chiaro che la città appartiene ai prodotti naturali, che l’uomo è un animale che per natura deve vivere in una città e che chi non vive in una città, per la sua natura e non per caso, o è un essere inferiore o è più che un uomo […] E chi è tale per natura è anche desideroso di guerra, in quanto non ha legami ed è come una pedina isol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1BD0-3F23-4CA6-8D16-0E236B6BF38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2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2, 1253a 2-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2560" y="1571760"/>
            <a:ext cx="8713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iò è chiaro che l’uomo è animale più socievole di qualsiasi ape e di qualsiasi altro animale che viva in greggi. Infatti, secondo quanto sosteniamo, la natura non fa nulla invano, e l’uomo è l’unico animale che abbia la favella […]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C190-CAF4-426B-BCFB-DE272E0DE9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3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6, 1278b 17-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871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…] si è detto che l’uomo è animale politico per natura. Perciò gli uomini, anche quando nessun bisogno di aiuto reciproco li spinga, desiderano nondimeno vivere insieme; del resto a ciò li sollecita anche l’interesse comune, in quanto così ciascuno vive megl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72B-6721-415A-94A2-2BF8BD25E30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4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9, 1280b 23-1281a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2560" y="1285560"/>
            <a:ext cx="8713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ertanto evidente che la comunità cittadina non è costituita soltanto dall’identità del luogo, dall’astinenza dal danno reciproco e dalla garanzia dei rapporti commerciali, perché, sebbene queste cose siano imprescindibili per l’esistenza della città, tuttavia, anche se si realizzano tutte, non c’è ancora una città, ma questa è la comunità che garantisce la buona vita e alle famiglie e alle stirpi, e ha come fine una vita indipendente e perfet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A17-8A7C-4D6D-8609-66ECE95CEF3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5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9, 1280b 23-1281a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71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tutto ciò è opera dell’amicizia in quanto essa è la preferenza per una vita in comune. Fine della città è dunque la buona vita e per raggiungere questo fine si impiegano tutti quei mezzi. [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iò bisogna ammettere che la comunità politica abbia come fine le belle azioni e non semplicemente la convivenz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6EEC-4FC5-4113-88E4-FA70085DADA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 (φιλ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ί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α) (1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, 1, 1155a 23-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sembra […] che sia l’amicizia a tenere insi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le città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, ed i legislatori si preoccupano più di l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he della giustizia; infatti la concor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[ὁμόνοια] sembra essere qualcosa di sim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ll’amicizia; ed è questa che essi han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oprattutto di mira, ed è la discordia,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quanto è una specie di inimicizia, che es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ercano soprattutto di scacci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229B-7FC0-4107-AC39-ACBE515D319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8:03:05Z</dcterms:created>
  <dc:creator>User name placeholder</dc:creator>
  <dc:description/>
  <dc:language>en-US</dc:language>
  <cp:lastModifiedBy>User</cp:lastModifiedBy>
  <dcterms:modified xsi:type="dcterms:W3CDTF">2009-03-17T10:37:41Z</dcterms:modified>
  <cp:revision>40</cp:revision>
  <dc:subject/>
  <dc:title>Diapositiva 1</dc:title>
</cp:coreProperties>
</file>